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912B-5A16-4EB3-9813-1AA6BC8D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F0F-76A8-4584-97FD-FAC30180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9A9-8A08-461A-9B0A-5154F69B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486B-1D5D-4443-852C-E114135D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3C7-A2C3-4890-B35E-07A21798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245-1599-4727-BC71-2AD3A6D0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3E6-B3E4-4839-8231-C3BC51DE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087-F3AB-49CD-9A7D-F17A92D2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BCD-70DC-4D17-A997-1115EA48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D7A-E847-455D-8477-6E19FB9D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4ED-8CE2-45EA-AF1C-31254971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5F0-4CFB-475E-9EBA-FCB1001B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36BE-045A-48F4-8E4C-3B5ED00F7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16:19:53Z</dcterms:created>
  <dc:creator>Grupo Editorial</dc:creator>
  <dc:description/>
  <dc:language>en-US</dc:language>
  <cp:lastModifiedBy>Grupo Editorial</cp:lastModifiedBy>
  <dcterms:modified xsi:type="dcterms:W3CDTF">2001-11-14T16:21:48Z</dcterms:modified>
  <cp:revision>1</cp:revision>
  <dc:subject/>
  <dc:title>Sin título de diapositiva</dc:title>
</cp:coreProperties>
</file>